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6EB6-06E1-48FE-B728-835650F06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ADEA-1250-4E96-A713-C696183D2FF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60EF-4B38-47AC-A61B-829DD23C843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64E8-6696-4398-8B3C-1E3E68F97B4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3ADD-690E-47B3-A283-C7CAEB18F40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CC5A-6EB1-475B-A0F2-D03C0C22446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3A65-D933-48F3-8ED8-FC512DF4B5A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DA22-1AD9-4B73-99D2-3486DE05E4F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CA19-A125-4E54-AF49-3B012276C3A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14F2-E7F6-4E55-B2EA-25109400AF9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8665-9B34-4C8E-B2B4-409458F5243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8AF9-1B89-403A-B898-88F579BC764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E914-D126-4708-B73C-2A0AF7674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DE37-DB6E-4A12-B78D-1CDE58A46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04F5-4866-4A15-A32B-E0A3419DA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C8F5-485A-42C3-A5D9-6E33A934D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DCCD-52BF-47FF-B3EA-4892BAAEF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6ED7-DE4B-494E-A1D9-21F8AD9F1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8742-53C6-49B5-B4A7-782B53DE6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850E-EE84-4A01-A3DD-B929A9BB0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8B29-CB9C-4641-ACA1-47E2B717B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0770-544C-4D92-B12F-B3A0C4D98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C4BF-56DE-4815-844F-2745F5B69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44CA-C7F7-4BD5-9B0A-A0A8C7293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6253-3F23-4E56-80C4-269CFC9088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rth’s bi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Picture 1027" descr=""/>
          <p:cNvPicPr/>
          <p:nvPr/>
        </p:nvPicPr>
        <p:blipFill>
          <a:blip r:embed="rId1"/>
          <a:srcRect l="0" t="0" r="902" b="4617"/>
          <a:stretch/>
        </p:blipFill>
        <p:spPr>
          <a:xfrm>
            <a:off x="685800" y="1276200"/>
            <a:ext cx="83818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rctic Tund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700200" y="1496880"/>
            <a:ext cx="8305560" cy="273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727200" y="4902480"/>
            <a:ext cx="818676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rctic, high-latitude, northern hemispher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dry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cold year rou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permafrost, lichens &amp; mosses, migrating animals &amp; resident herbivor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pine Tund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77960" y="1468440"/>
            <a:ext cx="7661160" cy="5106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4800" y="4869000"/>
            <a:ext cx="818676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high elevation at all latitud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dry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cold year rou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permafrost, lichens, mosses, grasses; migrating animals &amp; resident herbivor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vironmental facto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biotic facto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n-living chemical &amp; physical facto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emperatu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gh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at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tri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tic facto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ving compon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ima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4" name="Picture 4" descr="50-25a2-LowlandRainforest"/>
          <p:cNvPicPr/>
          <p:nvPr/>
        </p:nvPicPr>
        <p:blipFill>
          <a:blip r:embed="rId1"/>
          <a:stretch/>
        </p:blipFill>
        <p:spPr>
          <a:xfrm>
            <a:off x="4940280" y="4038480"/>
            <a:ext cx="40496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rin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58960" y="1363680"/>
            <a:ext cx="7704000" cy="5168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917280" y="6091920"/>
            <a:ext cx="136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tida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159320" y="3516840"/>
            <a:ext cx="143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al reef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40120" y="3961440"/>
            <a:ext cx="126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ntho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opical rainfores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797040" y="1355760"/>
            <a:ext cx="7734240" cy="5189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974880" y="4966920"/>
            <a:ext cx="7378560" cy="154512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equatoria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very we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lways war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many plants &amp; animals, thin soi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van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35120" y="1293840"/>
            <a:ext cx="8080200" cy="5383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974880" y="4835880"/>
            <a:ext cx="737856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equatoria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seasonal, dry season/wet seas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lways war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fire-adapted, drought tolerant plants; herbivores; fertile soi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se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11080" y="1397160"/>
            <a:ext cx="7855200" cy="5271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974880" y="4835880"/>
            <a:ext cx="755964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30°N &amp; S latitude ba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lmos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variable daily &amp; seasonally, hot &amp; col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sparse vegetation &amp; animals, cacti, succulents, drought tolerant, reptiles, insects, rodents, bird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mperate Grasslan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08120" y="1309680"/>
            <a:ext cx="8130960" cy="5386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974880" y="4763160"/>
            <a:ext cx="7670520" cy="186156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  <a:ea typeface="ＭＳ Ｐゴシック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: mid-latitudes, mid-continent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  <a:ea typeface="ＭＳ Ｐゴシック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: seasonal, dry season/wet seas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  <a:ea typeface="ＭＳ Ｐゴシック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: cold winters/hot summer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  <a:ea typeface="ＭＳ Ｐゴシック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: prairie grasses, fire-adapted, drought tolerant plants; many herbivores; deep, fertile soi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mperate Deciduous Fores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87240" y="1320840"/>
            <a:ext cx="8240760" cy="5460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974880" y="4835880"/>
            <a:ext cx="7738920" cy="178884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mid-latitude, northern hemispher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dequate, summer rains, winter snow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moderate warm summer/cool wint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many mammals, insects, birds, etc.; deciduous trees; fertile soil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iferous Forest (Taiga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480" y="1335240"/>
            <a:ext cx="7896240" cy="5298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604800" y="5112720"/>
            <a:ext cx="8186760" cy="1545120"/>
          </a:xfrm>
          <a:prstGeom prst="rect">
            <a:avLst/>
          </a:prstGeom>
          <a:solidFill>
            <a:srgbClr val="7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high-latitude, northern hemispher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precipit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adequate to dry (temperate rain forest on coast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cool year rou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characteristic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conifers; diverse mammals, birds, insects, etc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21:53Z</dcterms:created>
  <dc:creator>Jonathan</dc:creator>
  <dc:description>All Rights Reserved. Copyright 2003. WD Interactive.</dc:description>
  <cp:keywords>Education Biology Zone Kim Foglia</cp:keywords>
  <dc:language>en-US</dc:language>
  <cp:lastModifiedBy>Jonathan</cp:lastModifiedBy>
  <cp:lastPrinted>2006-10-26T04:32:19Z</cp:lastPrinted>
  <dcterms:modified xsi:type="dcterms:W3CDTF">2011-09-20T02:20:26Z</dcterms:modified>
  <cp:revision>7</cp:revision>
  <dc:subject>AP &amp; Regents Biology</dc:subject>
  <dc:title>Earth’s biomes</dc:title>
</cp:coreProperties>
</file>